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F87-9D4C-48EE-8CCC-A343D208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3B7-2061-48A6-B10E-C50FAB25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D53-8520-4E6D-AFA2-D76A9C16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7B5-D413-4593-872D-52094348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5FC2-BDC1-41DD-96B8-8340B10C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B803-703A-4BBD-A094-119AAD78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E0D0-C12F-4127-BD1D-06399F1D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DB1B-7602-4E34-BAE6-A35BBFDC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D2C6-A8EC-401A-9ED1-A24B6A52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706A-DBEB-434A-BE11-5A0454C4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15D7-C2C7-4FD8-A2DE-A013E7D7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771-104F-43B1-9F74-CCFF7DDA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A752-B695-442A-891D-1BE9F6EE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EF36-150C-4573-B635-771ECC3B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7A1C-7E17-4946-96BD-D32BE740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0C4C-D904-4ADD-AD66-7D13EE6A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53C3-1BF4-482E-AD27-F33B5018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2C1-0225-448B-AA49-6B59A67B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4EE-31C1-40F6-A006-467147A2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7DC-B93E-4D56-AD62-242538ED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60B-5BD8-4E3C-9C5A-0E937D21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631-ACA5-4A5F-B0FB-9692B3CC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C90-FCE3-49F8-A0A1-DDA89B4D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573-4187-4E06-AC59-ED9FB90A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00FC-F6D3-428A-8DDD-16CA5B50E2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49F1-C1B3-4872-9AB1-80B3F82F71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витие вычислительных навыков обучающихся с применением ИК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 подготови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я математики лицея №22 « Надежда Сибир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чулина  И.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винкина Ж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ие эффективности современ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а математики с применением И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77724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ректировка определённых ЗУН учащихся, необходимых для их самостоятельной деятельности на уроке или осознанного восприятия объяснения учит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 учителя за состоянием знаний учащих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сихологическая подготовка учащихся к восприятию нового матери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изация мыслительной деятельности на уроках матема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интереса к урокам математи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 проведении устного счета мы  придерживаемся следующих требовани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жнения для устного счета выбираются не случайно, а целенаправленн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я должны быть разнообразными, предлагаемые задачи не должны быть легкими, но и не должны быть «громоздкими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ы упражнений, чертежей и записей, если требуется, должны быть приготовлены заране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устному счету должны привлекаться все учен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оведении устного счета должны быть продуманы критерии оценки (поощрени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 формировании навыков устных вычислений   используем разнообразные упражнения  вид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1) Нахождение значений математических выражени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равнение математических выражени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Решение уравнени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Решение задач практического содерж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своей работе используем следующие формы восприятия устного счета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ховую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рительную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бинированну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считаем, что устный счет  как обязательный этап урока должен проводиться на уроках математики как начальных классах, так  в средних и старших класс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7:44:57Z</dcterms:created>
  <dc:creator>OEM</dc:creator>
  <dc:description/>
  <dc:language>en-US</dc:language>
  <cp:lastModifiedBy>Admin</cp:lastModifiedBy>
  <dcterms:modified xsi:type="dcterms:W3CDTF">2012-08-05T08:30:59Z</dcterms:modified>
  <cp:revision>5</cp:revision>
  <dc:subject/>
  <dc:title>Деление десятичных дробей на натуральные числа</dc:title>
</cp:coreProperties>
</file>